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5E2-45FC-4440-8ABF-71DC748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F26-13D4-4C83-B257-693E5EA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6EB-E889-487D-B2E3-C559F6FA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C78-DB01-4F47-87DE-B4BE8AC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B5D-3D56-4A69-B71E-24C24BA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A1B-428A-4254-9608-B31709C0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4EC-A080-4B1A-8B8C-CE5F5D50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831-C2B0-41F1-8C21-2420C12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72D-B3D3-4720-8FBA-1F96B7B7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3D3-2107-4F9F-B9B4-B98D0FC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CCC-3248-421B-A9E7-B6DA9F5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6F6-DE50-4D66-84A1-6046D59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9006F-A5A9-4844-BFBD-D8F315F325E8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EA409-8702-4FF4-BCFD-AAB0F00A2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Testbed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sipfed.org/exper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SIP Semantic Web Products and Services ‘triples’ testb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898989"/>
                </a:solidFill>
                <a:latin typeface="Calibri"/>
              </a:rPr>
              <a:t>ESIP Products and Services and IT&amp; Interoperability Committees and the Semantic Web Cluster, Jan 4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.esipfed.org/index.php/Testbed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(#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6388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SWTB_semantic_query_instanc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423720" y="1116000"/>
            <a:ext cx="1020276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SWTB_semantic_query_property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61800" y="1149480"/>
            <a:ext cx="1001700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bed – not a production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welcoming participants at al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 database is part of testbed, check it out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ipfed.org/exp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dd y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 PM and Thu AM – an initial tutorial directed toward semantic web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weight seman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to add/ query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y and W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420920"/>
            <a:ext cx="9144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duction –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case – motivation and scope – 2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– based on use case, start with domain model and proceed to ontology model and then show them how to engineer it (i.e. a piece of it) – 1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ed PM Sess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del ctd – 2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stance generation and population (how to? Write turtle, use Protégé, …), triple store ingest, web form – demo – 1 h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ummary and evaluation –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nd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317240"/>
            <a:ext cx="91440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u AM Sess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ro to these sessions – 1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pplication definition – decompose use case, review technology and dependencies, examine requirements for search and report, add/ correct instances, technology dependencies – 1 hr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valuation –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u AM Sessi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pplication/query development – generate SPARQL, follow along, provide a web query form, cut paste query into a textbox and execute and get result, for visual or text traversal, web form in wiki and first class citizen values (URI) - 1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valuation –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ems that would lead into intermediate (next) tuto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 Raskin (P&amp;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hul Ramachandran (IT&amp;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Fox (SW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 H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47600" y="5027760"/>
            <a:ext cx="6388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ESIP, it is difficult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working on simila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working with similar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could ferret out this information, we could improve knowledge sharing and even make conn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while, agency program managers sometimes need to know who is working on what data with wha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imple ontology of Projects, People, Datasets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e with ACCESS, MEaSUREs and similar project instance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e triples in ESIP Testbed triple 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 Domai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ESIP_Project.png"/>
          <p:cNvPicPr/>
          <p:nvPr/>
        </p:nvPicPr>
        <p:blipFill>
          <a:blip r:embed="rId1"/>
          <a:stretch/>
        </p:blipFill>
        <p:spPr>
          <a:xfrm>
            <a:off x="457200" y="1881360"/>
            <a:ext cx="8229600" cy="3482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Qu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rojects are working with semantic web technolog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chnologies are being used in NASA’s ACCESS progr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any projects working with the same datas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atasets are being used in projects working with semantic we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55480" y="652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Ly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Products and Services (GM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WTB_architectur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223920" y="1349280"/>
            <a:ext cx="100188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IT&amp;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SWTB_semantic_search_provenance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93840" y="1131840"/>
            <a:ext cx="10410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SemWeb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SWTB_collaborative_development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482760" y="1325520"/>
            <a:ext cx="103204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SWTB_semantic_ontology_registration.tiff"/>
          <p:cNvPicPr/>
          <p:nvPr/>
        </p:nvPicPr>
        <p:blipFill>
          <a:blip r:embed="rId1"/>
          <a:srcRect l="0" t="10743" r="0" b="10743"/>
          <a:stretch/>
        </p:blipFill>
        <p:spPr>
          <a:xfrm>
            <a:off x="-393840" y="1131840"/>
            <a:ext cx="101426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1:09Z</dcterms:created>
  <dc:creator>Peter Fox</dc:creator>
  <dc:description/>
  <dc:language>en-US</dc:language>
  <cp:lastModifiedBy>Peter Fox</cp:lastModifiedBy>
  <dcterms:modified xsi:type="dcterms:W3CDTF">2011-01-04T12:49:31Z</dcterms:modified>
  <cp:revision>21</cp:revision>
  <dc:subject/>
  <dc:title>Slide 1</dc:title>
</cp:coreProperties>
</file>